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6.wmf" ContentType="image/x-wmf"/>
  <Override PartName="/ppt/media/image3.wmf" ContentType="image/x-wmf"/>
  <Override PartName="/ppt/media/image29.wmf" ContentType="image/x-wmf"/>
  <Override PartName="/ppt/media/image11.png" ContentType="image/png"/>
  <Override PartName="/ppt/media/image31.wmf" ContentType="image/x-wmf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2.jpeg" ContentType="image/jpeg"/>
  <Override PartName="/ppt/media/image25.wmf" ContentType="image/x-wmf"/>
  <Override PartName="/ppt/media/image5.png" ContentType="image/png"/>
  <Override PartName="/ppt/media/image4.wmf" ContentType="image/x-wmf"/>
  <Override PartName="/ppt/media/image27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5486400" cy="41148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2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2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2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2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2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2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2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2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2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2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3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3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3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3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3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3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3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3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3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3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4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4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4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4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4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4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5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5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5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5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5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5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5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5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6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6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6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6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6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6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6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6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7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7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7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7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7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7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7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7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7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49039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479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2482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2479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45690-9BEC-4400-A905-CDA0E89671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249E0-A9F4-4060-9FE6-081BB3CBE3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"/>
          <p:cNvSpPr/>
          <p:nvPr/>
        </p:nvSpPr>
        <p:spPr>
          <a:xfrm>
            <a:off x="1371600" y="763560"/>
            <a:ext cx="5000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94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474F0-AC60-4610-8813-ABFEC0A3A1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371600" y="75420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77960" y="4778280"/>
            <a:ext cx="6216480" cy="45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7640" y="3436200"/>
            <a:ext cx="476388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81880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7640" y="343620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818800" y="343620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988280" y="123624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98920" y="123624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7640" y="343620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988280" y="343620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598920" y="343620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108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2324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818800" y="1236240"/>
            <a:ext cx="2324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79440" y="-186120"/>
            <a:ext cx="475776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108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818800" y="1236240"/>
            <a:ext cx="2324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7640" y="343620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2324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81880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818800" y="343620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81880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7640" y="3436200"/>
            <a:ext cx="476388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0" y="3673440"/>
            <a:ext cx="4479840" cy="26532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379440" y="3679920"/>
            <a:ext cx="2176560" cy="25884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ONE LAPTOP PER CHIL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1252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3440" indent="-1000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1936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1936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1936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03120" y="3940200"/>
            <a:ext cx="27608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his works are licensed under a Creative Commons Attribution 2.5 License.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4325760" y="3649680"/>
            <a:ext cx="1143000" cy="3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image" Target="../media/image27.wmf"/><Relationship Id="rId9" Type="http://schemas.openxmlformats.org/officeDocument/2006/relationships/image" Target="../media/image28.wm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9440" y="1639440"/>
            <a:ext cx="4819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cbc3c7"/>
                </a:solidFill>
                <a:latin typeface="Arial"/>
              </a:rPr>
              <a:t>One Laptop per Child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28" name="AutoShape 2"/>
          <p:cNvSpPr/>
          <p:nvPr/>
        </p:nvSpPr>
        <p:spPr>
          <a:xfrm>
            <a:off x="0" y="2895480"/>
            <a:ext cx="5486400" cy="7621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International Oper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obert D. Fade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5486400" cy="16732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1220040" y="1981080"/>
            <a:ext cx="30762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b3b3b3"/>
                </a:solidFill>
                <a:latin typeface="Arial"/>
              </a:rPr>
              <a:t>One Laptop per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Rollout Keys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structure, Accessory,  &amp; Distribution Inves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air a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Different Solutions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two deployments are a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s are ev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strategic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Uruguay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CEIBAL, 1:1 during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ehensive saturating competitive b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2,000 XO’s delivered, more to 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government 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3733920" y="152280"/>
            <a:ext cx="13716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Rwanda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Minister Commit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,000 deployed this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purchase being prep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strong, cross-agency Core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3886200" y="152280"/>
            <a:ext cx="121932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Nigeria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00 XO’s donated by private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sanctioned school deploy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lout, school implementation run by a second private sector fou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3505320" y="228600"/>
            <a:ext cx="158724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Lebanon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lestinian Refugee 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NGO orchast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stics/Rollout: UNR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Support: Norwegian People’s A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3809880" y="152280"/>
            <a:ext cx="132732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Start Early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 to Receipt: ~ 120 days (eas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Team in place long before you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Schools, Infrastructure, Saturation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costs,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OLP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are w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we do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can we do more of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What is OLPC?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77640" y="11426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PC is a non-profit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ed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all to 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 and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ed Open Source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OLPC: The laptop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78000" y="1236240"/>
            <a:ext cx="23047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O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 months in manufactu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70,000 shipp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50,000 by year 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152424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OLPC: Tech Speculation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78000" y="1236240"/>
            <a:ext cx="23047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O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10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P X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ual-b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 avail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prox. March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1"/>
          <a:stretch/>
        </p:blipFill>
        <p:spPr>
          <a:xfrm>
            <a:off x="2743200" y="1219320"/>
            <a:ext cx="220968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171360" y="357120"/>
            <a:ext cx="51199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Key Partners from Private &amp; Public Sector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336600" y="1062000"/>
            <a:ext cx="1120680" cy="425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4403880" y="1352520"/>
            <a:ext cx="745920" cy="339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3"/>
          <a:stretch/>
        </p:blipFill>
        <p:spPr>
          <a:xfrm>
            <a:off x="1789200" y="1020600"/>
            <a:ext cx="777960" cy="327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4"/>
          <a:stretch/>
        </p:blipFill>
        <p:spPr>
          <a:xfrm>
            <a:off x="2909880" y="1187280"/>
            <a:ext cx="496800" cy="284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"/>
          <p:cNvPicPr/>
          <p:nvPr/>
        </p:nvPicPr>
        <p:blipFill>
          <a:blip r:embed="rId5"/>
          <a:stretch/>
        </p:blipFill>
        <p:spPr>
          <a:xfrm>
            <a:off x="3324240" y="1892160"/>
            <a:ext cx="1427040" cy="21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"/>
          <p:cNvPicPr/>
          <p:nvPr/>
        </p:nvPicPr>
        <p:blipFill>
          <a:blip r:embed="rId6"/>
          <a:stretch/>
        </p:blipFill>
        <p:spPr>
          <a:xfrm>
            <a:off x="295200" y="2222640"/>
            <a:ext cx="1079640" cy="203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"/>
          <p:cNvPicPr/>
          <p:nvPr/>
        </p:nvPicPr>
        <p:blipFill>
          <a:blip r:embed="rId7"/>
          <a:stretch/>
        </p:blipFill>
        <p:spPr>
          <a:xfrm>
            <a:off x="2370240" y="1808280"/>
            <a:ext cx="585720" cy="642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"/>
          <p:cNvPicPr/>
          <p:nvPr/>
        </p:nvPicPr>
        <p:blipFill>
          <a:blip r:embed="rId8"/>
          <a:stretch/>
        </p:blipFill>
        <p:spPr>
          <a:xfrm>
            <a:off x="1623960" y="2554200"/>
            <a:ext cx="684360" cy="704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"/>
          <p:cNvPicPr/>
          <p:nvPr/>
        </p:nvPicPr>
        <p:blipFill>
          <a:blip r:embed="rId9"/>
          <a:stretch/>
        </p:blipFill>
        <p:spPr>
          <a:xfrm>
            <a:off x="3822840" y="896760"/>
            <a:ext cx="414360" cy="414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"/>
          <p:cNvPicPr/>
          <p:nvPr/>
        </p:nvPicPr>
        <p:blipFill>
          <a:blip r:embed="rId10"/>
          <a:stretch/>
        </p:blipFill>
        <p:spPr>
          <a:xfrm>
            <a:off x="1623960" y="1725480"/>
            <a:ext cx="382680" cy="384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"/>
          <p:cNvPicPr/>
          <p:nvPr/>
        </p:nvPicPr>
        <p:blipFill>
          <a:blip r:embed="rId11"/>
          <a:stretch/>
        </p:blipFill>
        <p:spPr>
          <a:xfrm>
            <a:off x="503280" y="1684440"/>
            <a:ext cx="700200" cy="201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5" descr=""/>
          <p:cNvPicPr/>
          <p:nvPr/>
        </p:nvPicPr>
        <p:blipFill>
          <a:blip r:embed="rId12"/>
          <a:stretch/>
        </p:blipFill>
        <p:spPr>
          <a:xfrm>
            <a:off x="420840" y="2803680"/>
            <a:ext cx="581040" cy="581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3033720" y="2513160"/>
            <a:ext cx="384120" cy="777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7" descr=""/>
          <p:cNvPicPr/>
          <p:nvPr/>
        </p:nvPicPr>
        <p:blipFill>
          <a:blip r:embed="rId14"/>
          <a:stretch/>
        </p:blipFill>
        <p:spPr>
          <a:xfrm>
            <a:off x="4610160" y="2762280"/>
            <a:ext cx="358560" cy="528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8" descr=""/>
          <p:cNvPicPr/>
          <p:nvPr/>
        </p:nvPicPr>
        <p:blipFill>
          <a:blip r:embed="rId15"/>
          <a:stretch/>
        </p:blipFill>
        <p:spPr>
          <a:xfrm>
            <a:off x="3697200" y="2471760"/>
            <a:ext cx="711360" cy="3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Vital Partnerships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1371600" cy="911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"/>
          <p:cNvPicPr/>
          <p:nvPr/>
        </p:nvPicPr>
        <p:blipFill>
          <a:blip r:embed="rId2"/>
          <a:stretch/>
        </p:blipFill>
        <p:spPr>
          <a:xfrm>
            <a:off x="1905120" y="838080"/>
            <a:ext cx="1295280" cy="860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3"/>
          <a:stretch/>
        </p:blipFill>
        <p:spPr>
          <a:xfrm>
            <a:off x="304920" y="2606760"/>
            <a:ext cx="1371600" cy="822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4"/>
          <a:stretch/>
        </p:blipFill>
        <p:spPr>
          <a:xfrm>
            <a:off x="3429000" y="914400"/>
            <a:ext cx="1371600" cy="690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"/>
          <p:cNvPicPr/>
          <p:nvPr/>
        </p:nvPicPr>
        <p:blipFill>
          <a:blip r:embed="rId5"/>
          <a:stretch/>
        </p:blipFill>
        <p:spPr>
          <a:xfrm>
            <a:off x="3505320" y="1828800"/>
            <a:ext cx="1143000" cy="758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6"/>
          <a:stretch/>
        </p:blipFill>
        <p:spPr>
          <a:xfrm>
            <a:off x="1828800" y="1860480"/>
            <a:ext cx="1447920" cy="730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"/>
          <p:cNvPicPr/>
          <p:nvPr/>
        </p:nvPicPr>
        <p:blipFill>
          <a:blip r:embed="rId7"/>
          <a:stretch/>
        </p:blipFill>
        <p:spPr>
          <a:xfrm>
            <a:off x="457200" y="1828800"/>
            <a:ext cx="1066680" cy="533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"/>
          <p:cNvPicPr/>
          <p:nvPr/>
        </p:nvPicPr>
        <p:blipFill>
          <a:blip r:embed="rId8"/>
          <a:stretch/>
        </p:blipFill>
        <p:spPr>
          <a:xfrm>
            <a:off x="1828800" y="2708280"/>
            <a:ext cx="1403280" cy="797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"/>
          <p:cNvPicPr/>
          <p:nvPr/>
        </p:nvPicPr>
        <p:blipFill>
          <a:blip r:embed="rId9"/>
          <a:stretch/>
        </p:blipFill>
        <p:spPr>
          <a:xfrm>
            <a:off x="3429000" y="2670120"/>
            <a:ext cx="137160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Global Numbers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22035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OLPC Project Rollouts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ting XOs is eas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ing them is h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PC can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is owned lo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Camrbridge, MA
April 23-27, 2007
</dc:description>
  <dc:language>en-US</dc:language>
  <cp:lastModifiedBy> </cp:lastModifiedBy>
  <dcterms:modified xsi:type="dcterms:W3CDTF">2008-09-18T17:57:40Z</dcterms:modified>
  <cp:revision>95</cp:revision>
  <dc:subject/>
  <dc:title>One Laptop per Child</dc:title>
</cp:coreProperties>
</file>